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6E1-A640-45E3-82A5-609EC8F3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09C-E577-4175-B880-B6419B59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729-8482-4E2D-B77A-34EDB3FD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DFA-4085-4F92-806B-2AD6EAB1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AE3C-E8FB-4BE4-B8A9-B4205D09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2714-0F6F-47C3-B056-45ED98C7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FAC1-7013-428F-8FD7-496132F6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58DC-64D4-4C21-A689-909DAD9E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7948-5BBB-442A-B5CF-6A6B77CF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D10F-8DAF-463A-AFE8-CB0CD832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AFC2-4A26-493E-8B44-52296A64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CBC-E9E8-43CB-9163-A5408472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303B-A20D-47A7-BEFC-10C54E57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3565-3152-4DF3-B941-27324175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FB59-04AB-4C5C-A7B3-23FB8515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325C-5694-4BEB-BC68-74FFE8D4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E093-55A7-473E-9551-4B4079AC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301-C84F-467B-BBC0-DD1C12E5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57A-25AC-4ACE-AD45-C0647874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93E-DF49-4B82-BFAA-DB2EF3FF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C79-B94C-4A8B-8A53-12263688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D113-14B0-4356-94B9-CD2BA96D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2E2-54A7-45AC-AEF2-8D6B3961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9BF-07CC-4B5F-B7CE-63F37722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72C0-22B5-4DBA-99E0-37CCB44D68F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D1DF-37DE-45B1-9C4F-B564005F1F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utura Md BT"/>
              </a:rPr>
              <a:t>Click to edit the title text format</a:t>
            </a: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331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7960"/>
                </a:solidFill>
                <a:latin typeface="Trebuchet MS"/>
                <a:ea typeface="Arial"/>
              </a:rPr>
              <a:t>Predavanja :</a:t>
            </a:r>
            <a:endParaRPr b="1" lang="en-US" sz="36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154944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snove račun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233856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Upravljački susta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3127320"/>
            <a:ext cx="5104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brada tek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93228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29T20:07:59Z</dcterms:modified>
  <cp:revision>6</cp:revision>
  <dc:subject/>
  <dc:title>Predavanja :</dc:title>
</cp:coreProperties>
</file>