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5BCD-7A6A-422C-8000-C8FCCAB6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535-09DC-4D97-AA8A-F417F234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82A-1923-4820-A4AD-327C4775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20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20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2B3-885E-473B-A4F8-4648E888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C238-2D5C-4E5A-B737-78AA2A1B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3033-795F-4D7E-B856-7C0A0EC5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078-533F-41A6-8DA4-041A615F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7B5-319A-4717-BB0E-04315997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6F82-818B-4D42-A5E8-B416ED56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4A4-0355-4484-8270-3DE37AFC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0D77-3CAA-4443-BE57-F206C03A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5A4-ED99-490E-8EF6-CB008BB0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con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Thir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our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if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ix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ven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97CF-EA90-4C59-B4D4-990BB20A677A}" type="datetime">
              <a:rPr b="0" lang="hr-HR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8C87-C8EF-4329-A67C-FB8598B717B5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6280" y="2170080"/>
            <a:ext cx="5816520" cy="148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5400" spc="-1" strike="noStrike">
                <a:solidFill>
                  <a:srgbClr val="ffff00"/>
                </a:solidFill>
                <a:latin typeface="Trebuchet MS"/>
              </a:rPr>
              <a:t>E – poš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08T20:10:19Z</dcterms:modified>
  <cp:revision>3</cp:revision>
  <dc:subject/>
  <dc:title>Slide 1</dc:title>
</cp:coreProperties>
</file>