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5CA-1D6E-4D37-B702-43AA4DF7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C288-5591-4306-851A-B44D01EE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410-9C3D-45A8-9A56-2704354A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5F6-1B44-4D7C-B4F1-D2CBD25E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D6CA-D0C5-4573-86F3-82B433EF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158-E729-43E5-92E8-06AAD7FD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2230-A3CF-40CD-8C59-B05E6BBD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232C-42C9-4346-8B4F-E174B71A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0E1-A93C-408A-82BB-9309FF84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E3B3-18FB-4EB9-9BF8-1B18BECD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F6E-9A3B-4A59-B78D-5A03C96E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D99-BE79-4B0E-8F58-53E417D7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917F-4FF6-4532-B9C6-011A402B4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088040" cy="158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rebuchet MS"/>
              </a:rPr>
              <a:t>Dobro došli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7T20:12:03Z</dcterms:modified>
  <cp:revision>3</cp:revision>
  <dc:subject/>
  <dc:title>Dobro došli !</dc:title>
</cp:coreProperties>
</file>