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FDFE-B9A9-41A4-B7DE-D2B82F363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560" y="363240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3E13-65D2-4027-BB03-428CA992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2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E22B-C056-4114-B6CB-12F5A685A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320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984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56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320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984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EAE5-AC36-43ED-BA77-0D6934F49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01FA-2842-4A08-B724-9737DE98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B950-89E2-4D45-8184-745D4E60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AC78-29BB-4F81-9DFB-85B71594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4AEA-0A59-4952-97AA-90EBEBA0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7A56-B59E-4242-94A6-CEE97B2F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5382-DCA5-4514-9DD6-978E5106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2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7AB0-CA60-4F59-8F82-9DB316BD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7CD6-6D13-4BA5-8FAD-68B138BB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Click to edit the outline text format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econd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Third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Four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Fif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ix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even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95A0-0723-4B4B-B8BC-9D25963227F0}" type="datetime">
              <a:rPr b="0" lang="hr-HR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185F-D1FD-451F-857A-B2ACC058F0B8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6280" y="2170080"/>
            <a:ext cx="5816520" cy="148896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990033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5400" spc="-1" strike="noStrike">
                <a:solidFill>
                  <a:srgbClr val="ffff00"/>
                </a:solidFill>
                <a:latin typeface="Trebuchet MS"/>
              </a:rPr>
              <a:t>E – poš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22:00:00Z</dcterms:created>
  <dc:creator/>
  <dc:description/>
  <dc:language>en-US</dc:language>
  <cp:lastModifiedBy/>
  <dcterms:modified xsi:type="dcterms:W3CDTF">2004-07-08T20:10:19Z</dcterms:modified>
  <cp:revision>3</cp:revision>
  <dc:subject/>
  <dc:title>Slide 1</dc:title>
</cp:coreProperties>
</file>