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3DF-4E06-4AB2-BA47-F7CCDF66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880-FD0C-4107-9E6D-2D835ADE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1426-88E7-4988-B234-22130E13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20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20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AF10-7829-4256-BC57-F1623D0B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362-5295-4839-9422-22B43965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F624-C7B1-46BC-AD08-51B0E90D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FFFB-8B9D-49C9-B4AF-73827B92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56A-B87E-4903-BFC7-E48DD959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1A46-36B7-459C-B8AD-1173B4E1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E66-E87C-486B-B9A7-DB158186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3709-A8EE-4259-A926-75D32FF4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586-D84E-4B8E-A9D9-2F63DA5C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con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Thir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our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if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ix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ven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3F46-CE79-4744-97C7-9A1FE1287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088040" cy="158256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Trebuchet MS"/>
              </a:rPr>
              <a:t>Dobro došli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07T20:12:03Z</dcterms:modified>
  <cp:revision>3</cp:revision>
  <dc:subject/>
  <dc:title>Dobro došli !</dc:title>
</cp:coreProperties>
</file>