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95B-2B14-4D95-803D-A25B6553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DC0E-0ED6-430E-A031-57B5A6E1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6C09-88C6-44AE-87B3-7E0DAEBC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20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984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20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984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D862-E184-461E-8DE5-D171F364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F71-CFA5-4ACF-8431-36C3CB6E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D073-AD35-4C78-BCC6-43CB5A86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E2E3-4753-4D10-A8D3-56155153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E30-4428-4106-9B4E-D15A378C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8D16-903C-4836-8FEB-8EC3700B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BE4C-DFE5-44BF-AFE7-8AE3B6A8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D58B-2D8F-4676-B6CC-6ACC3F21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3B28-84EC-48E2-B72C-60067416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con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Thir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our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if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ix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ven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07A5-37E3-4C52-A26D-C01F138AC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088040" cy="158256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Trebuchet MS"/>
              </a:rPr>
              <a:t>Dobro došli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07T20:12:03Z</dcterms:modified>
  <cp:revision>3</cp:revision>
  <dc:subject/>
  <dc:title>Dobro došli !</dc:title>
</cp:coreProperties>
</file>