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187-C63C-4389-9E00-46769D17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1B6-6027-4D90-8076-5EFC3C15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F96-79BF-4FD0-A0C5-D5BCA748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FA8-F3E2-48F9-9FE4-47954B25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6ECB-5CBC-4A97-B591-877B17CC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E31F-C689-4166-87A6-A49123A2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10E0-FDDE-43C0-B9C7-C402F7F4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068E-E6AE-4777-B79C-94A8D874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DBBC-3937-478E-B7A3-EB8E9D9C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DEA4-A19F-4954-89A7-C5D54D0B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768B-0766-467E-BD71-6760E4B4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611-7ACC-4E87-8509-84D7EB0B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DDB2-0949-4C11-B4C1-44E5CA6E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DFE0-8EC4-4051-B4B3-E9E201DA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8B1D-A274-44EB-B5D2-DB80A4D1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BE33-3519-4EE4-94B6-37FA3EF8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1667-5126-4AFB-80AF-793D8C0C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09E-ECF3-4095-9F3E-B4619484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ECC-D55E-4484-B2AC-D268A5AD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9C2-F88B-4351-81CF-649DE6A6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AB79-DB88-4E99-9C99-C02F7D1F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F52-F9DD-4239-B859-632C2BB8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8CB-1CE2-43E5-BA65-12BA84CE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AFFE-92E5-420C-A2AB-4937E2D7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4807-A992-4A65-8FB4-8B5EE8B9702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745D-15B0-4D7A-AB49-2156597CA4C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utura Md BT"/>
              </a:rPr>
              <a:t>Click to edit the title text format</a:t>
            </a: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331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7960"/>
                </a:solidFill>
                <a:latin typeface="Trebuchet MS"/>
                <a:ea typeface="Arial"/>
              </a:rPr>
              <a:t>Predavanja :</a:t>
            </a:r>
            <a:endParaRPr b="1" lang="en-US" sz="36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154944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snove račun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233856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Upravljački susta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3127320"/>
            <a:ext cx="5104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brada tek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93228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29T20:07:59Z</dcterms:modified>
  <cp:revision>6</cp:revision>
  <dc:subject/>
  <dc:title>Predavanja :</dc:title>
</cp:coreProperties>
</file>