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B581-7493-42EB-9606-A87B0CCE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214E-98A9-4381-AC74-9D16E544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7F7-1542-49B7-A677-80CB9198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E96-F0D3-476F-8C1F-AE91BB9C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67A-B9F0-4C65-9CD6-9E8AF37E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F41-3D21-460B-96B9-1949E27E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3EB-D225-40FE-93AE-652FAB53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4B9-AECC-4C4C-A70B-CB845151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67B-FF3B-4B21-AF6F-499516A4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7A6-189F-4A06-B253-7DD023D4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0E1-0D49-4978-AA5B-B99E0075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FF9-6230-422E-A4D8-A53977EE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73D9-5F3D-4CB9-878C-7C14D18724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b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ws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’Connell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t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Vittorio Emmanu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Eur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n Du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ulevard Victor Hu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e Lamar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enue Jean-Mede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09:57:24Z</dcterms:created>
  <dc:creator/>
  <dc:description/>
  <dc:language>en-US</dc:language>
  <cp:lastModifiedBy>User</cp:lastModifiedBy>
  <dcterms:modified xsi:type="dcterms:W3CDTF">2003-10-21T12:08:16Z</dcterms:modified>
  <cp:revision>7</cp:revision>
  <dc:subject/>
  <dc:title>Dublin</dc:title>
</cp:coreProperties>
</file>