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062C-0226-400F-9F13-2BB917D7A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3B10-1880-4FD3-BF74-2E48EFD2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A6DB-0534-451A-B223-5130AAE2D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546A-00B1-4F84-A922-EC6448B85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B7B4-7CB4-42D0-888E-1A405DE2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8A28-EAB9-4CE6-8EF5-5F4107D1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12D6-5494-44C3-90EB-2E4E8A62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A2E0-F95E-4DC2-808C-D8B84311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ABC6-2D28-4103-B1FC-6330B72B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978F-B9D3-43C7-8622-0695B7DE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69EE-3888-43C2-BFAB-F2B80062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B90E-BC44-4359-B59B-1D6BDB8E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728A-B729-4536-B532-87B55EE57E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bl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wson Str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’Connell Str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fton Str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so Vittorio Emmanu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so Euro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Via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an Duo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oulevard Victor Hu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e Lamart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venue Jean-Medec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09:57:24Z</dcterms:created>
  <dc:creator/>
  <dc:description/>
  <dc:language>en-US</dc:language>
  <cp:lastModifiedBy>User</cp:lastModifiedBy>
  <dcterms:modified xsi:type="dcterms:W3CDTF">2003-10-21T12:08:16Z</dcterms:modified>
  <cp:revision>7</cp:revision>
  <dc:subject/>
  <dc:title>Dublin</dc:title>
</cp:coreProperties>
</file>